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GUITAR_LICKS_06_2D13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D88-E122-44D6-85FC-1C915AD4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D88-292F-4D14-A702-0BA90E5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44B-EB9A-4FA8-B561-DEE64A3F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0DD-BAC4-41D7-8A9D-15247A55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508-B0EE-47BD-BCC8-0951B67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CC4-27F0-4972-AB18-53837B3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0001-C8E6-41D0-A20A-54DC57E7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0B46-31ED-4717-B907-C8BE4F4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B5E3-DEF5-4AE3-8CD3-D5385596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C1F5-0D47-4408-AB7B-D71EF6F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C2B-8D9A-417E-8D0F-14D9BA4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E12-6BB2-41B8-AD10-1C30260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A4BD-F48C-4C3D-8AF8-8000C43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F010-FEF9-46C1-92FE-8F52B36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3422-CB37-4FF5-A5C2-CA19F28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6285-066E-4632-A63E-C72D70DF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9C2-CA5D-4683-9619-2E0D7393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AFB-2C2C-47F5-AC00-DD86100C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CA0-0678-4AF2-9690-B09D9CC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198-53FA-444B-AE9D-AB3CDC95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3EA-3C54-442E-B92A-6856650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6F9-957E-46B7-8474-8E27E2D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2E2-825A-4BBC-BFEF-EE84264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324-A43C-4E4E-9124-9679863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b61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b61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B19E-FEA6-4EDC-B29D-831152A4953F}" type="slidenum"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b616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01D2-6C4F-47E3-A162-D9AE4CAAFAA8}" type="slidenum"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GUITAR_LICKS_06_2D1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GUITAR_LICKS_06_2D13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audio" Target="../media/GUITAR_LICKS_06_2D13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audio" Target="../media/GUITAR_LICKS_06_2D13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UITAR_LICKS_06_2D13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765000"/>
            <a:ext cx="9144000" cy="935280"/>
          </a:xfrm>
          <a:prstGeom prst="rect">
            <a:avLst/>
          </a:prstGeom>
          <a:gradFill rotWithShape="0">
            <a:gsLst>
              <a:gs pos="0">
                <a:srgbClr val="f6b2d6"/>
              </a:gs>
              <a:gs pos="100000">
                <a:srgbClr val="b6166a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15640" y="3357720"/>
            <a:ext cx="6480360" cy="2303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ff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73000"/>
          </a:bodyPr>
          <a:p>
            <a:pPr indent="0" algn="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200" spc="-1" strike="noStrike">
                <a:solidFill>
                  <a:srgbClr val="e7ade6"/>
                </a:solidFill>
                <a:latin typeface="Angsana New"/>
                <a:cs typeface="LilyUPC"/>
              </a:rPr>
              <a:t>ตัวต้านทาน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200" spc="-1" strike="noStrike">
                <a:solidFill>
                  <a:srgbClr val="e7ade6"/>
                </a:solidFill>
                <a:latin typeface="Angsana New"/>
                <a:cs typeface="LilyUPC"/>
              </a:rPr>
              <a:t>และตัวเหนี่ยวนำต่อร่วมกัน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16280"/>
            <a:ext cx="9144000" cy="504720"/>
          </a:xfrm>
          <a:prstGeom prst="rect">
            <a:avLst/>
          </a:prstGeom>
          <a:gradFill rotWithShape="0">
            <a:gsLst>
              <a:gs pos="0">
                <a:srgbClr val="f6b2d6"/>
              </a:gs>
              <a:gs pos="100000">
                <a:srgbClr val="b6166a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64000" y="836640"/>
            <a:ext cx="28800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400" spc="-1" strike="noStrike">
                <a:solidFill>
                  <a:srgbClr val="b6166a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9400" spc="-1" strike="noStrike">
                <a:solidFill>
                  <a:srgbClr val="b6166a"/>
                </a:solidFill>
                <a:latin typeface="Angsana New"/>
                <a:ea typeface="KodchiangUPC"/>
              </a:rPr>
              <a:t>8</a:t>
            </a:r>
            <a:endParaRPr b="1" lang="en-US" sz="9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 advTm="30000">
    <p:wipe dir="d"/>
    <p:sndAc>
      <p:stSnd>
        <p:snd r:embed="rId3" name="GUITAR_LICKS_06_2D1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4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059280" y="2276640"/>
                <a:ext cx="295272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59280" y="3860640"/>
                <a:ext cx="3025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5444640"/>
            <a:ext cx="655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วงจรต่ออนุกรม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26920" y="549000"/>
            <a:ext cx="5313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6b2d6"/>
                </a:solidFill>
                <a:latin typeface="Angsana New"/>
                <a:cs typeface="LilyUPC"/>
              </a:rPr>
              <a:t>วงจรอนุกรม </a:t>
            </a:r>
            <a:r>
              <a:rPr b="1" i="1" lang="en-US" sz="4800" spc="-1" strike="noStrike">
                <a:solidFill>
                  <a:srgbClr val="f6b2d6"/>
                </a:solidFill>
                <a:latin typeface="Angsana New"/>
                <a:ea typeface="LilyUPC"/>
              </a:rPr>
              <a:t>R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5520" y="46530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วงจ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20520" y="4653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สัญญา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4400" y="46530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11280" y="2492280"/>
            <a:ext cx="2663640" cy="2016360"/>
          </a:xfrm>
          <a:prstGeom prst="rect">
            <a:avLst/>
          </a:prstGeom>
          <a:ln w="9360">
            <a:solidFill>
              <a:srgbClr val="b6166a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348000" y="1773360"/>
            <a:ext cx="5545080" cy="2736720"/>
          </a:xfrm>
          <a:prstGeom prst="rect">
            <a:avLst/>
          </a:prstGeom>
          <a:ln w="9360">
            <a:solidFill>
              <a:srgbClr val="b6166a"/>
            </a:solidFill>
            <a:miter/>
          </a:ln>
        </p:spPr>
      </p:pic>
      <p:sp>
        <p:nvSpPr>
          <p:cNvPr id="111" name=""/>
          <p:cNvSpPr/>
          <p:nvPr/>
        </p:nvSpPr>
        <p:spPr>
          <a:xfrm flipH="1" flipV="1" rot="5400000">
            <a:off x="1582560" y="2616480"/>
            <a:ext cx="23004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7906702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790670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6" name="GUITAR_LICKS_06_2D13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76720" y="2421000"/>
                <a:ext cx="3313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76720" y="3500280"/>
                <a:ext cx="3008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θ  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245360" cy="78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6b2d6"/>
                </a:solidFill>
                <a:latin typeface="Angsana New"/>
                <a:cs typeface="LilyUPC"/>
              </a:rPr>
              <a:t>อิมพีแดนซ์ของวงจรอนุกรม </a:t>
            </a:r>
            <a:r>
              <a:rPr b="1" i="1" lang="en-US" sz="4800" spc="-1" strike="noStrike">
                <a:solidFill>
                  <a:srgbClr val="f6b2d6"/>
                </a:solidFill>
                <a:latin typeface="Angsana New"/>
                <a:ea typeface="LilyUPC"/>
              </a:rPr>
              <a:t>R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240" y="2593800"/>
                <a:ext cx="2336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19640" y="3573360"/>
                <a:ext cx="24415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อินพีแดนซ์ของ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402920" y="141300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สามเหลี่ยมมุมฉากในรูปอิมพีแดนซ์ ของ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R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และ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8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3132000" y="2420640"/>
            <a:ext cx="237672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40766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37162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8720" y="29973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3120" y="414972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508720" y="242064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24280" y="3141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0160" y="32846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4653000"/>
                <a:ext cx="3144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อินพีแดนซ์ของ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433600">
            <a:off x="3855600" y="3582720"/>
            <a:ext cx="212760" cy="431640"/>
          </a:xfrm>
          <a:custGeom>
            <a:avLst/>
            <a:gdLst>
              <a:gd name="textAreaLeft" fmla="*/ 0 w 212760"/>
              <a:gd name="textAreaRight" fmla="*/ 149400 w 2127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58560" y="5589720"/>
            <a:ext cx="7173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แรงดันและกระแสเกิดขึ้นในวงจรอนุกรม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RL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1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6b2d6"/>
                </a:solidFill>
                <a:latin typeface="Angsana New"/>
                <a:cs typeface="LilyUPC"/>
              </a:rPr>
              <a:t>กำลังไฟฟ้าของวงจรอนุกรม </a:t>
            </a:r>
            <a:r>
              <a:rPr b="1" i="1" lang="en-US" sz="4800" spc="-1" strike="noStrike">
                <a:solidFill>
                  <a:srgbClr val="f6b2d6"/>
                </a:solidFill>
                <a:latin typeface="Angsana New"/>
                <a:ea typeface="LilyUPC"/>
              </a:rPr>
              <a:t>R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กำลังไฟฟ้าของ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5160" y="4869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ffffff"/>
                </a:solidFill>
                <a:latin typeface="Angsana New"/>
              </a:rPr>
              <a:t>สัญญา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8360" y="4869000"/>
            <a:ext cx="35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3280" y="1773360"/>
            <a:ext cx="6913800" cy="3024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ipe dir="d"/>
    <p:sndAc>
      <p:stSnd>
        <p:snd r:embed="rId5" name="GUITAR_LICKS_06_2D13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03640" y="1844640"/>
                <a:ext cx="226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θ 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03640" y="3068640"/>
                <a:ext cx="34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θ 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03640" y="4149720"/>
                <a:ext cx="1719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กำลังไฟฟ้าของวงจรอนุกรม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87280" y="5373720"/>
            <a:ext cx="73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วงจรต่อขนาน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4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32000" y="620640"/>
            <a:ext cx="5170320" cy="99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6b2d6"/>
                </a:solidFill>
                <a:latin typeface="Angsana New"/>
                <a:cs typeface="LilyUPC"/>
              </a:rPr>
              <a:t>วงจรขนาน </a:t>
            </a:r>
            <a:r>
              <a:rPr b="1" i="1" lang="en-US" sz="4800" spc="-1" strike="noStrike">
                <a:solidFill>
                  <a:srgbClr val="f6b2d6"/>
                </a:solidFill>
                <a:latin typeface="Angsana New"/>
                <a:ea typeface="LilyUPC"/>
              </a:rPr>
              <a:t>RL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61160" y="47242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วงจ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0520" y="472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สัญญา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3480" y="46530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95280" y="2708280"/>
            <a:ext cx="2592360" cy="1901880"/>
          </a:xfrm>
          <a:prstGeom prst="rect">
            <a:avLst/>
          </a:prstGeom>
          <a:ln w="9360">
            <a:solidFill>
              <a:srgbClr val="b6166a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3384720" cy="2376360"/>
          </a:xfrm>
          <a:prstGeom prst="rect">
            <a:avLst/>
          </a:prstGeom>
          <a:ln w="9360">
            <a:solidFill>
              <a:srgbClr val="b6166a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659640" y="2708280"/>
            <a:ext cx="2340000" cy="1974960"/>
          </a:xfrm>
          <a:prstGeom prst="rect">
            <a:avLst/>
          </a:prstGeom>
          <a:ln w="9360">
            <a:solidFill>
              <a:srgbClr val="b6166a"/>
            </a:solidFill>
            <a:miter/>
          </a:ln>
        </p:spPr>
      </p:pic>
      <p:sp>
        <p:nvSpPr>
          <p:cNvPr id="180" name=""/>
          <p:cNvSpPr/>
          <p:nvPr/>
        </p:nvSpPr>
        <p:spPr>
          <a:xfrm flipH="1" flipV="1" rot="5400000">
            <a:off x="1286640" y="2897280"/>
            <a:ext cx="23004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6703849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670384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5240" y="211932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4680" y="269568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2600" y="242100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30720" y="2976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86760" y="2708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08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86160" y="29242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299736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7" name="GUITAR_LICKS_06_2D13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5640" y="0"/>
            <a:ext cx="8388360" cy="6858000"/>
          </a:xfrm>
          <a:prstGeom prst="rect">
            <a:avLst/>
          </a:prstGeom>
          <a:solidFill>
            <a:srgbClr val="b6166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14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b6166a"/>
              </a:gs>
              <a:gs pos="100000">
                <a:srgbClr val="530a3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8</a:t>
            </a: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ffffff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780000" y="1773360"/>
                <a:ext cx="2011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08360" y="2924280"/>
                <a:ext cx="2879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708360" y="4941720"/>
                <a:ext cx="2305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476360" y="0"/>
            <a:ext cx="5381640" cy="703800"/>
          </a:xfrm>
          <a:prstGeom prst="rect">
            <a:avLst/>
          </a:prstGeom>
          <a:gradFill rotWithShape="0">
            <a:gsLst>
              <a:gs pos="0">
                <a:srgbClr val="530a30"/>
              </a:gs>
              <a:gs pos="50000">
                <a:srgbClr val="b6166a"/>
              </a:gs>
              <a:gs pos="100000">
                <a:srgbClr val="530a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ตัวต้านทานและตัวเหนี่ยวนำต่อร่วมกัน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wipe dir="d"/>
    <p:sndAc>
      <p:stSnd>
        <p:snd r:embed="rId4" name="GUITAR_LICKS_06_2D13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4:32:36Z</dcterms:created>
  <dc:creator>ADMIN</dc:creator>
  <dc:description/>
  <dc:language>en-US</dc:language>
  <cp:lastModifiedBy>พี่อุอุ๊</cp:lastModifiedBy>
  <dcterms:modified xsi:type="dcterms:W3CDTF">2005-11-14T03:17:00Z</dcterms:modified>
  <cp:revision>45</cp:revision>
  <dc:subject/>
  <dc:title>งานนำเสนอ PowerPoint</dc:title>
</cp:coreProperties>
</file>